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B2EA-57BE-4C3D-908F-055FA53B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08FA-FEF0-4377-AAD0-9FE80DD2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6FD0-1C31-4E9B-B72E-5F5519FE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F477-090D-4AB2-9861-03421C3A5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3F9-F7F4-4D13-B078-BBF83D5A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986A-A7DE-4CF4-A4D2-7E15A89F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B1BD-F04B-4518-8101-D367D1DD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1FED-F3CB-4B05-B7FA-6694ADAC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72A0-BAAE-40B4-89C1-90726AE3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DA22-B46A-470D-AB02-32CB9928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A537-82CF-4AC8-8EBF-AAA0B615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DBBF-5FC2-483A-BFC5-637FE49B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8824-4354-4987-BA70-17CC2453DECE}" type="slidenum">
              <a:rPr b="0" lang="es-CO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1916280"/>
            <a:ext cx="8075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600" spc="-1" strike="noStrike">
                <a:solidFill>
                  <a:srgbClr val="000000"/>
                </a:solidFill>
                <a:latin typeface="Arial"/>
                <a:ea typeface="Arial"/>
              </a:rPr>
              <a:t>UML</a:t>
            </a:r>
            <a:endParaRPr b="0" lang="en-US" sz="1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IAGRAMA DE CLA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4920" y="1628280"/>
            <a:ext cx="8280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laciones entre clas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ara relacionar dos o más clases cada una con características y objetivos diferentes se debe tener en cuenta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cardinalidad de las relaciones, este término indica el grado y nivel de dependencia, se anotan en cada extremo de la relación y éstas pueden ser: o uno o muchos: 1..* (1..n) o 0 o muchos: 0..* (0..n)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DIAGRAMA DE CLA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000" y="1844280"/>
            <a:ext cx="82184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-Asociació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relación entre clases conocida como Asociación, permite asociar objetos que colaboran entre sí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3 CuadroTexto"/>
          <p:cNvSpPr/>
          <p:nvPr/>
        </p:nvSpPr>
        <p:spPr>
          <a:xfrm>
            <a:off x="4788000" y="4365720"/>
            <a:ext cx="2808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7" name="5 Conector recto de flecha"/>
          <p:cNvCxnSpPr/>
          <p:nvPr/>
        </p:nvCxnSpPr>
        <p:spPr>
          <a:xfrm>
            <a:off x="5148360" y="4653000"/>
            <a:ext cx="1945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IAGRAMA DE CLA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9640" y="1341360"/>
            <a:ext cx="81360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-Instanciación: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proceso de crear objetos pertenecientes a una clase se denomina instanciar, donde los objetos son las instancias de la clase a la que pertenecen. Se usa una flecha punteada para mostrar los objetos como instancias de las clas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7 Rectángulo"/>
          <p:cNvSpPr/>
          <p:nvPr/>
        </p:nvSpPr>
        <p:spPr>
          <a:xfrm>
            <a:off x="539640" y="5157720"/>
            <a:ext cx="1944720" cy="574920"/>
          </a:xfrm>
          <a:prstGeom prst="rect">
            <a:avLst/>
          </a:prstGeom>
          <a:solidFill>
            <a:srgbClr val="c6d9f1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8 Rectángulo"/>
          <p:cNvSpPr/>
          <p:nvPr/>
        </p:nvSpPr>
        <p:spPr>
          <a:xfrm>
            <a:off x="4643280" y="5084640"/>
            <a:ext cx="38163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laudia Restrepo: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9 Rectángulo"/>
          <p:cNvSpPr/>
          <p:nvPr/>
        </p:nvSpPr>
        <p:spPr>
          <a:xfrm>
            <a:off x="4643280" y="5732640"/>
            <a:ext cx="3816360" cy="433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Olga Lucia Velásquez: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3" name="AutoShape 6"/>
          <p:cNvCxnSpPr>
            <a:stCxn id="81" idx="1"/>
            <a:endCxn id="80" idx="3"/>
          </p:cNvCxnSpPr>
          <p:nvPr/>
        </p:nvCxnSpPr>
        <p:spPr>
          <a:xfrm flipH="1">
            <a:off x="2483640" y="5299560"/>
            <a:ext cx="2159640" cy="144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4" name="AutoShape 7"/>
          <p:cNvCxnSpPr/>
          <p:nvPr/>
        </p:nvCxnSpPr>
        <p:spPr>
          <a:xfrm flipH="1" flipV="1">
            <a:off x="2483640" y="5515920"/>
            <a:ext cx="2148840" cy="36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JEMPLO DIAGRAMA DE CLA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3 Marcador de contenido" descr=""/>
          <p:cNvPicPr/>
          <p:nvPr/>
        </p:nvPicPr>
        <p:blipFill>
          <a:blip r:embed="rId1"/>
          <a:stretch/>
        </p:blipFill>
        <p:spPr>
          <a:xfrm>
            <a:off x="1476360" y="1600200"/>
            <a:ext cx="60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DIAGRAMA DE CLASE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 Título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68000" y="1268280"/>
            <a:ext cx="8218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Clase: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Una clase describe un grupo de objetos que tienen características y comportamientos similares. Las estructuras o propiedades de la clase se denominan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atributo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 y el comportamiento com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operacione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. En general el nombre de una clase debe iniciar con letra mayúscul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IAGRAMA DE CLASE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773360"/>
            <a:ext cx="835344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Un diagrama de clases representa las clases que serán utilizadas dentro del sistema y las relaciones que existen entre ellas.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  <a:ea typeface="MS Mincho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La notación gráfica de una clase es un rectángulo que contiene el nombre de la clas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11 Rectángulo"/>
          <p:cNvSpPr/>
          <p:nvPr/>
        </p:nvSpPr>
        <p:spPr>
          <a:xfrm>
            <a:off x="5003640" y="4941720"/>
            <a:ext cx="3024360" cy="790920"/>
          </a:xfrm>
          <a:prstGeom prst="rect">
            <a:avLst/>
          </a:prstGeom>
          <a:solidFill>
            <a:srgbClr val="c6d9f1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IAGRAMA DE CLA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Atributos: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Los atributos o características de una clase pueden ser de tres tipo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  <a:ea typeface="MS Mincho"/>
              </a:rPr>
              <a:t>  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  <a:ea typeface="MS Mincho"/>
              </a:rPr>
              <a:t>-public (+):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MS Mincho"/>
              </a:rPr>
              <a:t>Indica que el atributo será visible tanto dentro como fuera de la clase, es decir, es accesible desde todos lado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  <a:ea typeface="MS Mincho"/>
              </a:rPr>
              <a:t> 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  <a:ea typeface="MS Mincho"/>
              </a:rPr>
              <a:t>-</a:t>
            </a:r>
            <a:r>
              <a:rPr b="0" i="1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private (-):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Indica que el atributo sólo será accesible desde dentro de la clase (sólo sus métodos lo pueden accesar)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IAGRAMA DE CLA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-protected (#):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Indica que el atributo no será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accesible desde fuera de la clas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Los atributos se representan gráficamen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encerrados dentro de un rectángulo debajo del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nombre de la clas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3 Rectángulo"/>
          <p:cNvSpPr/>
          <p:nvPr/>
        </p:nvSpPr>
        <p:spPr>
          <a:xfrm>
            <a:off x="4211640" y="4869000"/>
            <a:ext cx="2160720" cy="1512720"/>
          </a:xfrm>
          <a:prstGeom prst="rect">
            <a:avLst/>
          </a:prstGeom>
          <a:solidFill>
            <a:srgbClr val="c6d9f1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x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11 Rectángulo"/>
          <p:cNvSpPr/>
          <p:nvPr/>
        </p:nvSpPr>
        <p:spPr>
          <a:xfrm>
            <a:off x="4211640" y="4508640"/>
            <a:ext cx="216072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" name="13 Conector recto de flecha"/>
          <p:cNvCxnSpPr/>
          <p:nvPr/>
        </p:nvCxnSpPr>
        <p:spPr>
          <a:xfrm>
            <a:off x="5867280" y="5444640"/>
            <a:ext cx="13694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14 Conector recto de flecha"/>
          <p:cNvCxnSpPr/>
          <p:nvPr/>
        </p:nvCxnSpPr>
        <p:spPr>
          <a:xfrm flipV="1">
            <a:off x="5867280" y="5589000"/>
            <a:ext cx="1369440" cy="21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21 CuadroTexto"/>
          <p:cNvSpPr/>
          <p:nvPr/>
        </p:nvSpPr>
        <p:spPr>
          <a:xfrm>
            <a:off x="7308720" y="5300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RIBUT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IAGRAMA DE CLA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Se puede definir un tipo de dato para cada atributo, por ejemplo el atribut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edad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de la clas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person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 puede ser del tipo numérico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Operaciones :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MS Mincho"/>
              </a:rPr>
              <a:t>Las operaciones son funciones o     transformaciones que se aplican a todos los objetos de una clase. La operación debe ser una acción ejecutada por el objeto o sobre el objet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IAGRAMA DE CLA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jemplo: Jugar, Estudiar, Trabajar, son operaciones de la clase Persona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s operaciones deben ser únicas dentro de una misma clas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 se debe utilizar el mismo nombre en operaciones que tengan significados diferent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IAGRAMA DE CLA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000" y="1267920"/>
            <a:ext cx="82803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s operaciones pueden tener argumentos, 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cir, una lista de parámetros y pued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ambién devolver resultados. Las operacion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incorporan en la tercera sección de la clas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3 Rectángulo"/>
          <p:cNvSpPr/>
          <p:nvPr/>
        </p:nvSpPr>
        <p:spPr>
          <a:xfrm>
            <a:off x="3132000" y="3716280"/>
            <a:ext cx="1871640" cy="576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4 Rectángulo"/>
          <p:cNvSpPr/>
          <p:nvPr/>
        </p:nvSpPr>
        <p:spPr>
          <a:xfrm>
            <a:off x="3132000" y="4292640"/>
            <a:ext cx="1871640" cy="115236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x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5 Rectángulo"/>
          <p:cNvSpPr/>
          <p:nvPr/>
        </p:nvSpPr>
        <p:spPr>
          <a:xfrm>
            <a:off x="3132000" y="5445000"/>
            <a:ext cx="1871640" cy="122400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studiar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rabajar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7 Conector recto de flecha"/>
          <p:cNvCxnSpPr/>
          <p:nvPr/>
        </p:nvCxnSpPr>
        <p:spPr>
          <a:xfrm>
            <a:off x="5003640" y="4076280"/>
            <a:ext cx="216108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8 Conector recto de flecha"/>
          <p:cNvCxnSpPr/>
          <p:nvPr/>
        </p:nvCxnSpPr>
        <p:spPr>
          <a:xfrm>
            <a:off x="5003280" y="4797000"/>
            <a:ext cx="158508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9 Conector recto de flecha"/>
          <p:cNvCxnSpPr/>
          <p:nvPr/>
        </p:nvCxnSpPr>
        <p:spPr>
          <a:xfrm flipV="1">
            <a:off x="5003280" y="5589000"/>
            <a:ext cx="1585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14 CuadroTexto"/>
          <p:cNvSpPr/>
          <p:nvPr/>
        </p:nvSpPr>
        <p:spPr>
          <a:xfrm>
            <a:off x="7236000" y="386064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15 CuadroTexto"/>
          <p:cNvSpPr/>
          <p:nvPr/>
        </p:nvSpPr>
        <p:spPr>
          <a:xfrm>
            <a:off x="665964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16 CuadroTexto"/>
          <p:cNvSpPr/>
          <p:nvPr/>
        </p:nvSpPr>
        <p:spPr>
          <a:xfrm>
            <a:off x="6732720" y="5516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PERACIONES (Métod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22:28:05Z</dcterms:created>
  <dc:creator>marjoriebedoya</dc:creator>
  <dc:description/>
  <dc:language>en-US</dc:language>
  <cp:lastModifiedBy>Ospina Rios</cp:lastModifiedBy>
  <dcterms:modified xsi:type="dcterms:W3CDTF">2013-03-19T06:26:08Z</dcterms:modified>
  <cp:revision>106</cp:revision>
  <dc:subject/>
  <dc:title>ESTUDIANTES MATRICULADOS  2010-02 ROBLEDO - FRATERNIDAD</dc:title>
</cp:coreProperties>
</file>